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3C8-DD7C-4ED0-A07B-144324A2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C0F-94F3-44EF-B11A-C6E0F61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BA2-1412-4792-861B-A2260F8F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260-FCD3-4297-B37A-A10D1122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B6D-2313-44CB-AB1F-E556DCD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151-CDBF-41A6-AACD-BDAFC6DB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AFE-DCE2-4FEF-A6DB-E100DA2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796-4C9E-4F31-98AC-1930C5A6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DAC-BFE9-4AEA-B9AC-D8B4F5F7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D2D-503B-49B1-9189-D46CDD7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F90-4981-407E-A3D8-4EA2A89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A18-2431-49A1-9A35-126F24F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DD6-FB96-45A6-B86F-A23785711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19160" y="733320"/>
            <a:ext cx="7656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00120" y="206280"/>
            <a:ext cx="66009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-11160"/>
            <a:ext cx="695988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12:22:24Z</dcterms:created>
  <dc:creator>ir014928tb</dc:creator>
  <dc:description/>
  <dc:language>en-US</dc:language>
  <cp:lastModifiedBy>ir014928tb</cp:lastModifiedBy>
  <dcterms:modified xsi:type="dcterms:W3CDTF">2016-09-12T12:22:48Z</dcterms:modified>
  <cp:revision>1</cp:revision>
  <dc:subject/>
  <dc:title>Diapositiva 1</dc:title>
</cp:coreProperties>
</file>